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107-2C96-4428-A7C7-01C7FA9C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D4B-B3CC-4C19-95B4-9378428F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3FD-F31D-4892-A2B1-A9FFC8E3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3C2-35BC-48F3-B516-ADAA53A5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25C-4ED1-4223-A9E4-02C1283D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149-31DE-4BFA-8DAC-17425763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E9F-BFA4-490A-9967-6F578FE6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E2E-9B31-44E9-9983-92C7FDB2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2FE-B6B1-429E-871A-92D7B8C8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8E0-3979-4D31-9AEF-EA8173C7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104-74F4-4765-83A3-9014D69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030-F028-4C8A-8A36-B53EB0D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558B-07F2-4486-8D77-BFBBD7226D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ial Ame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nish Colo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5822280" y="352512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-s-history.com/pages/h1148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3320" y="1219320"/>
            <a:ext cx="449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3899160" cy="650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5379000">
            <a:off x="6841440" y="3420360"/>
            <a:ext cx="391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virtualjamestown.org/images/white_debry/white_35_comp.GI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9960" y="200160"/>
            <a:ext cx="352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6320"/>
            <a:ext cx="46483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llage of Seco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1585-86 drawings and paitings of John White, later governor or a British colony, helped to open up North America to European exploration and settlement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can you conclude from the drawing about daily life in Secota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375080"/>
            <a:ext cx="4495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y Europeans thought that Native Americans were violent and savage and without culture or tradition. How might seeing this illustration have influenced potential colonists in Englan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n North American Colonies 16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14332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5400000">
            <a:off x="5317200" y="4032720"/>
            <a:ext cx="422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encarta.msn.com/media_461543947/north_american_colonies_1650.ht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 17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6864120" y="3553920"/>
            <a:ext cx="326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ambrosevideo.com/resources/documents/113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820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2:38:51Z</dcterms:created>
  <dc:creator>YHS Teacher</dc:creator>
  <dc:description/>
  <dc:language>en-US</dc:language>
  <cp:lastModifiedBy>YHS Teacher</cp:lastModifiedBy>
  <dcterms:modified xsi:type="dcterms:W3CDTF">2008-09-09T16:07:33Z</dcterms:modified>
  <cp:revision>7</cp:revision>
  <dc:subject/>
  <dc:title>Colonial America</dc:title>
</cp:coreProperties>
</file>